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360" y="-7013880"/>
            <a:ext cx="360" cy="154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FF83-FBDE-4131-A95F-82646B244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2CC5-054C-4A10-8C2C-1D42DBA63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8F91-A4F9-4A60-98B9-7D41459BB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1D36-163B-4364-9C34-4C2D57552F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4A95-AA10-4E24-8F35-2C03AEC10D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3178-BC8E-4610-878A-F1639A799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1AB8-95A0-49DE-A2A8-87341E29C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8DF8-5833-418B-AD01-AFF3E3061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805F-049D-4E9C-956D-4425D66A9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928C-301E-49D1-8570-BBC20F4A1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5D5D-F24A-45D0-A575-48CC94EEF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DB20-0B4B-4DD8-BE3F-889C19F4F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73CFC-6D66-4358-8060-B2865A5182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351000" y="380880"/>
            <a:ext cx="8412120" cy="6067440"/>
          </a:xfrm>
          <a:prstGeom prst="roundRect">
            <a:avLst>
              <a:gd name="adj" fmla="val 23"/>
            </a:avLst>
          </a:prstGeom>
          <a:noFill/>
          <a:ln w="27360">
            <a:solidFill>
              <a:srgbClr val="0000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654960" y="2291040"/>
            <a:ext cx="37767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Sc in Bioinformatics: USING CE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9320" y="4930920"/>
            <a:ext cx="3190680" cy="1839600"/>
          </a:xfrm>
          <a:prstGeom prst="rect">
            <a:avLst/>
          </a:prstGeom>
          <a:ln w="0">
            <a:noFill/>
          </a:ln>
        </p:spPr>
      </p:pic>
      <p:sp>
        <p:nvSpPr>
          <p:cNvPr id="6" name="Text Box 7"/>
          <p:cNvSpPr/>
          <p:nvPr/>
        </p:nvSpPr>
        <p:spPr>
          <a:xfrm>
            <a:off x="1674720" y="5041800"/>
            <a:ext cx="1504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Oscar Conchillo Solé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Biologia Computacion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Institut de Biotecnologia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i Biomedicin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U.A.B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843360" y="631800"/>
            <a:ext cx="4176720" cy="5570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601920" y="2486160"/>
            <a:ext cx="30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ing IBB Clus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ell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038240" y="801720"/>
            <a:ext cx="19494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sernam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our NI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0555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3685680" y="3419640"/>
            <a:ext cx="42271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Working dir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/share/Sdata3/MSCB/$USER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DO NOT WORK I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/home/$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651120" y="822240"/>
            <a:ext cx="402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ow to acc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sh $USER@cellerui.uab.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eeform 1"/>
          <p:cNvSpPr/>
          <p:nvPr/>
        </p:nvSpPr>
        <p:spPr>
          <a:xfrm>
            <a:off x="2981160" y="2558880"/>
            <a:ext cx="1489320" cy="2262240"/>
          </a:xfrm>
          <a:custGeom>
            <a:avLst/>
            <a:gdLst>
              <a:gd name="textAreaLeft" fmla="*/ 0 w 1489320"/>
              <a:gd name="textAreaRight" fmla="*/ 1489680 w 1489320"/>
              <a:gd name="textAreaTop" fmla="*/ 0 h 2262240"/>
              <a:gd name="textAreaBottom" fmla="*/ 2262600 h 2262240"/>
            </a:gdLst>
            <a:ahLst/>
            <a:rect l="textAreaLeft" t="textAreaTop" r="textAreaRight" b="textAreaBottom"/>
            <a:pathLst>
              <a:path w="710" h="1408">
                <a:moveTo>
                  <a:pt x="0" y="0"/>
                </a:moveTo>
                <a:lnTo>
                  <a:pt x="326" y="0"/>
                </a:lnTo>
                <a:lnTo>
                  <a:pt x="326" y="1408"/>
                </a:lnTo>
                <a:lnTo>
                  <a:pt x="710" y="140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19058" t="0" r="27056" b="0"/>
          <a:stretch/>
        </p:blipFill>
        <p:spPr>
          <a:xfrm>
            <a:off x="4419720" y="1927080"/>
            <a:ext cx="2396880" cy="420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457200" y="4848120"/>
          <a:ext cx="2879640" cy="1127160"/>
        </p:xfrm>
        <a:graphic>
          <a:graphicData uri="http://schemas.openxmlformats.org/drawingml/2006/table">
            <a:tbl>
              <a:tblPr/>
              <a:tblGrid>
                <a:gridCol w="857160"/>
                <a:gridCol w="2022480"/>
              </a:tblGrid>
              <a:tr h="15840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BL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 fire X4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x AMD Opteron 2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T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w access File Serv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454560"/>
          <a:ext cx="2879640" cy="1136520"/>
        </p:xfrm>
        <a:graphic>
          <a:graphicData uri="http://schemas.openxmlformats.org/drawingml/2006/table">
            <a:tbl>
              <a:tblPr/>
              <a:tblGrid>
                <a:gridCol w="857160"/>
                <a:gridCol w="2022480"/>
              </a:tblGrid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hall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 fire X4200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x AMD Opteron 2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6 Gib + 6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access File Serv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2058840"/>
          <a:ext cx="2879640" cy="1106640"/>
        </p:xfrm>
        <a:graphic>
          <a:graphicData uri="http://schemas.openxmlformats.org/drawingml/2006/table">
            <a:tbl>
              <a:tblPr/>
              <a:tblGrid>
                <a:gridCol w="857160"/>
                <a:gridCol w="2022480"/>
              </a:tblGrid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l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M on a sun fire X4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l Xeon 5300 Seri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-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uster Head nod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57200" y="704880"/>
          <a:ext cx="2879640" cy="1106280"/>
        </p:xfrm>
        <a:graphic>
          <a:graphicData uri="http://schemas.openxmlformats.org/drawingml/2006/table">
            <a:tbl>
              <a:tblPr/>
              <a:tblGrid>
                <a:gridCol w="857160"/>
                <a:gridCol w="2022480"/>
              </a:tblGrid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leru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 fire X4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x Intel Xeon 5300 Seri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G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uster user interfa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332240" y="581040"/>
          <a:ext cx="2879640" cy="1106640"/>
        </p:xfrm>
        <a:graphic>
          <a:graphicData uri="http://schemas.openxmlformats.org/drawingml/2006/table">
            <a:tbl>
              <a:tblPr/>
              <a:tblGrid>
                <a:gridCol w="857160"/>
                <a:gridCol w="2022480"/>
              </a:tblGrid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-0-?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X4150 / SMicro SYS-6015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x Intel Xeon 5300 / 5400 Seri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culation nod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Freeform 263"/>
          <p:cNvSpPr/>
          <p:nvPr/>
        </p:nvSpPr>
        <p:spPr>
          <a:xfrm>
            <a:off x="6877080" y="1190520"/>
            <a:ext cx="438120" cy="3953160"/>
          </a:xfrm>
          <a:custGeom>
            <a:avLst/>
            <a:gdLst>
              <a:gd name="textAreaLeft" fmla="*/ 0 w 438120"/>
              <a:gd name="textAreaRight" fmla="*/ 438480 w 438120"/>
              <a:gd name="textAreaTop" fmla="*/ 0 h 3953160"/>
              <a:gd name="textAreaBottom" fmla="*/ 3953520 h 3953160"/>
            </a:gdLst>
            <a:ahLst/>
            <a:rect l="textAreaLeft" t="textAreaTop" r="textAreaRight" b="textAreaBottom"/>
            <a:pathLst>
              <a:path w="978" h="2574">
                <a:moveTo>
                  <a:pt x="858" y="0"/>
                </a:moveTo>
                <a:lnTo>
                  <a:pt x="978" y="0"/>
                </a:lnTo>
                <a:lnTo>
                  <a:pt x="978" y="2574"/>
                </a:lnTo>
                <a:lnTo>
                  <a:pt x="0" y="2574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264"/>
          <p:cNvSpPr/>
          <p:nvPr/>
        </p:nvSpPr>
        <p:spPr>
          <a:xfrm>
            <a:off x="3381480" y="5838840"/>
            <a:ext cx="1047600" cy="1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reeform 265"/>
          <p:cNvSpPr/>
          <p:nvPr/>
        </p:nvSpPr>
        <p:spPr>
          <a:xfrm>
            <a:off x="3362400" y="4371840"/>
            <a:ext cx="1057320" cy="99072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666" h="798">
                <a:moveTo>
                  <a:pt x="0" y="0"/>
                </a:moveTo>
                <a:lnTo>
                  <a:pt x="108" y="0"/>
                </a:lnTo>
                <a:lnTo>
                  <a:pt x="108" y="798"/>
                </a:lnTo>
                <a:lnTo>
                  <a:pt x="666" y="79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reeform 266"/>
          <p:cNvSpPr/>
          <p:nvPr/>
        </p:nvSpPr>
        <p:spPr>
          <a:xfrm>
            <a:off x="3332160" y="1090440"/>
            <a:ext cx="1127160" cy="35863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3586320"/>
              <a:gd name="textAreaBottom" fmla="*/ 3586680 h 3586320"/>
            </a:gdLst>
            <a:ahLst/>
            <a:rect l="textAreaLeft" t="textAreaTop" r="textAreaRight" b="textAreaBottom"/>
            <a:pathLst>
              <a:path w="710" h="1408">
                <a:moveTo>
                  <a:pt x="0" y="0"/>
                </a:moveTo>
                <a:lnTo>
                  <a:pt x="326" y="0"/>
                </a:lnTo>
                <a:lnTo>
                  <a:pt x="326" y="1408"/>
                </a:lnTo>
                <a:lnTo>
                  <a:pt x="710" y="140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Freeform 267"/>
          <p:cNvSpPr/>
          <p:nvPr/>
        </p:nvSpPr>
        <p:spPr>
          <a:xfrm>
            <a:off x="4143240" y="1076400"/>
            <a:ext cx="314640" cy="1895400"/>
          </a:xfrm>
          <a:custGeom>
            <a:avLst/>
            <a:gdLst>
              <a:gd name="textAreaLeft" fmla="*/ 0 w 314640"/>
              <a:gd name="textAreaRight" fmla="*/ 315000 w 314640"/>
              <a:gd name="textAreaTop" fmla="*/ 0 h 1895400"/>
              <a:gd name="textAreaBottom" fmla="*/ 1895760 h 1895400"/>
            </a:gdLst>
            <a:ahLst/>
            <a:rect l="textAreaLeft" t="textAreaTop" r="textAreaRight" b="textAreaBottom"/>
            <a:pathLst>
              <a:path w="198" h="1194">
                <a:moveTo>
                  <a:pt x="108" y="0"/>
                </a:moveTo>
                <a:lnTo>
                  <a:pt x="0" y="0"/>
                </a:lnTo>
                <a:lnTo>
                  <a:pt x="0" y="1194"/>
                </a:lnTo>
                <a:lnTo>
                  <a:pt x="198" y="1194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68"/>
          <p:cNvSpPr/>
          <p:nvPr/>
        </p:nvSpPr>
        <p:spPr>
          <a:xfrm>
            <a:off x="209520" y="581040"/>
            <a:ext cx="3305160" cy="1346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1239840" y="4651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mote Di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Object 2"/>
          <p:cNvGraphicFramePr/>
          <p:nvPr/>
        </p:nvGraphicFramePr>
        <p:xfrm>
          <a:off x="388800" y="1585800"/>
          <a:ext cx="83052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1585800"/>
                    <a:ext cx="8305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3" descr=""/>
          <p:cNvPicPr/>
          <p:nvPr/>
        </p:nvPicPr>
        <p:blipFill>
          <a:blip r:embed="rId3"/>
          <a:srcRect l="0" t="26811" r="0" b="27537"/>
          <a:stretch/>
        </p:blipFill>
        <p:spPr>
          <a:xfrm>
            <a:off x="1733400" y="2228760"/>
            <a:ext cx="885960" cy="40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4"/>
          <p:cNvGraphicFramePr/>
          <p:nvPr/>
        </p:nvGraphicFramePr>
        <p:xfrm>
          <a:off x="3181320" y="1633680"/>
          <a:ext cx="1117800" cy="57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81320" y="1633680"/>
                    <a:ext cx="11178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5"/>
          <p:cNvSpPr/>
          <p:nvPr/>
        </p:nvSpPr>
        <p:spPr>
          <a:xfrm>
            <a:off x="944640" y="2430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Gb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058920" y="2441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Gb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14280" y="2712960"/>
            <a:ext cx="398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ared between multiple computer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twork bandwidth and other computers use can be a bottleneck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ts of reads/writes per second will saturate the network afecting the whole cluster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6"/>
          <a:stretch/>
        </p:blipFill>
        <p:spPr>
          <a:xfrm>
            <a:off x="5135400" y="1741320"/>
            <a:ext cx="2343240" cy="1757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5824440" y="4651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cal Di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486320" y="3730680"/>
            <a:ext cx="425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que for each 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s not influenced by external fa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ts of reads/writes per second will on only afect itself, not the cluster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43880" y="1104840"/>
            <a:ext cx="3472560" cy="368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/share/Sdata3/MSCB/$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678200" y="1104840"/>
            <a:ext cx="3335400" cy="368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/state/partition1/$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1" name="AutoShape 13"/>
          <p:cNvCxnSpPr/>
          <p:nvPr/>
        </p:nvCxnSpPr>
        <p:spPr>
          <a:xfrm>
            <a:off x="1115640" y="1844280"/>
            <a:ext cx="618120" cy="586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AutoShape 14"/>
          <p:cNvCxnSpPr/>
          <p:nvPr/>
        </p:nvCxnSpPr>
        <p:spPr>
          <a:xfrm flipV="1" rot="10800000">
            <a:off x="2636280" y="1896840"/>
            <a:ext cx="545040" cy="442080"/>
          </a:xfrm>
          <a:prstGeom prst="curvedConnector5">
            <a:avLst>
              <a:gd name="adj1" fmla="val 49966"/>
              <a:gd name="adj2" fmla="val 49959"/>
              <a:gd name="adj3" fmla="val 49966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284040" y="1144440"/>
            <a:ext cx="8867520" cy="100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txino@login-0-0 SGE]$ qst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job-ID  prior   name       user         state submit/start at     queue                          slots ja-task-ID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158237 0.51000 ONE_PATCH_ txino        dr    01/28/2013 15:11:46 all.q@compute-0-2.local            1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159226 0.50375 ONE_PATCH_ txino        qw    01/30/2013 14:43:11                                    1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48000" y="37296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ecking jo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27200" y="612720"/>
            <a:ext cx="60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ourier New"/>
              </a:rPr>
              <a:t>qsta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ws MY jobs and their st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28640" y="2335320"/>
            <a:ext cx="74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ourier New"/>
              </a:rPr>
              <a:t>qstat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–f –u \*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hows ALL jobs, ALL nodes and their st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71320" y="2844720"/>
            <a:ext cx="7587360" cy="338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[txino@login-0-0 SGE]$ qstat -f -u \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queuename                      qtype resv/used/tot. load_avg arch          st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all.q@compute-0-2.local        BIP   0/8/8          5.14     lx26-amd64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224 0.50125 ENALL_MELP indarte      r     01/29/2013 16:25:39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223 0.50125 ENALL_LP-o indarte      r     01/29/2013 16:25:24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226 0.51000 ONE_PATCH_ txino        r     01/30/2013 17:51:26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228 0.50125 ENALL_MELP indarte      r     01/31/2013 21:00:48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366 0.50125 ENALL_MELP indarte      r     02/04/2013 10:13:35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367 0.50125 ENALL_MELP indarte      r     02/04/2013 10:36:20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429 0.50143 APGN_PF    sasha        r     02/04/2013 10:13:50     1 1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429 0.50143 APGN_PF    sasha        r     02/04/2013 10:21:05     1 13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all.q@compute-0-3.local        BIP   0/8/8          9.23     lx26-amd64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8828 0.54778 fr21_E334Q hansel       r     01/29/2013 12:29:35     8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0:34:00Z</dcterms:created>
  <dc:creator>---</dc:creator>
  <dc:description/>
  <dc:language>en-US</dc:language>
  <cp:lastModifiedBy>Oscar Conchillo Solé</cp:lastModifiedBy>
  <dcterms:modified xsi:type="dcterms:W3CDTF">2024-02-02T15:04:25Z</dcterms:modified>
  <cp:revision>11</cp:revision>
  <dc:subject/>
  <dc:title>Diapositiva 1</dc:title>
</cp:coreProperties>
</file>